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6.wmf" ContentType="image/x-wmf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3480" y="44017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80884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63600" y="880884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79B8A-F4BB-4C06-87D8-BFD6B4BB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how EAP authentication take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ill all use those Management Subframe types we talked about ear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ook at each of these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can do discovery; this is before 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802.1x unique to wireless 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from the original EAPOL key exchange to prevent MITM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mor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986B-0241-4673-994B-266171E53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620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021D-DDB8-4008-897C-D06E105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F9EC-BB2A-473C-8943-39E6770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16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240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16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240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9B52-1FE9-4006-8E04-C6471764A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7D2A2-7FAB-46C4-B5E5-1E2ECF6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EBD0-4FD7-4956-9986-79898FC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311F2-5F88-44E1-B246-F082EBE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B0B7-8CBC-40CC-BF69-1CF8750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B8631-AD76-4DEE-85ED-B0E3FE5C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4606920"/>
            <a:ext cx="87854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893B-9192-443F-AFEE-ED1CA89A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A44EF-9485-44CF-B264-625BA9D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6513-6288-4EB1-9D76-A0A4487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204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5AB8-116E-4F4C-A141-C28F08B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64143-405E-4429-9E74-EDA6BA8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6280" y="620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15F0-8C0A-46A5-937F-2CEBC8EE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204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6584-1B1E-4E10-A288-B713A80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916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2400" y="584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0628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916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2400" y="6206760"/>
            <a:ext cx="28310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AABB2-A71D-45A5-B62F-73D95811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21DE-6540-4E07-8EE4-B05D3FD6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B7C8-440F-4EB7-A220-0091D59D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F2AA-06C9-46ED-9AEA-4F41BE04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9280" y="4606920"/>
            <a:ext cx="87854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570D-CD96-4BE8-AFB8-9F278E7F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DC86-8F62-43C1-B0F7-2C7721A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620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15E6-9256-4BE9-8129-9E126874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5846760"/>
            <a:ext cx="429084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6206760"/>
            <a:ext cx="8793360" cy="3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CE02-73E3-40F4-A733-B4128DE4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-911160" y="809640"/>
            <a:ext cx="105886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02a0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032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986280" y="6571800"/>
            <a:ext cx="51782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c02a0c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c02a0c"/>
                </a:solidFill>
                <a:latin typeface="Arial"/>
                <a:ea typeface="Times New Roman"/>
              </a:rPr>
              <a:t>©</a:t>
            </a:r>
            <a:r>
              <a:rPr b="1" lang="en-US" sz="700" spc="-1" strike="noStrike">
                <a:solidFill>
                  <a:srgbClr val="c02a0c"/>
                </a:solidFill>
                <a:latin typeface="Arial"/>
              </a:rPr>
              <a:t> copyright 2005. BITHGROUP Technologies.</a:t>
            </a:r>
            <a:r>
              <a:rPr b="1" lang="en-US" sz="1300" spc="-1" strike="noStrike">
                <a:solidFill>
                  <a:srgbClr val="c02a0c"/>
                </a:solidFill>
                <a:latin typeface="Times New Roman"/>
              </a:rPr>
              <a:t>     </a:t>
            </a:r>
            <a:fld id="{A7B52CFB-D5C0-456D-B7A7-B61CB2DA7075}" type="slidenum">
              <a:rPr b="1" lang="en-US" sz="1300" spc="-1" strike="noStrike">
                <a:solidFill>
                  <a:srgbClr val="c02a0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4520" y="6440400"/>
            <a:ext cx="395280" cy="390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 rot="1473000">
            <a:off x="-456840" y="-417240"/>
            <a:ext cx="1676520" cy="165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509760" y="6446880"/>
            <a:ext cx="3492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606720"/>
            <a:ext cx="28958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23888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E751-FF9A-4907-9571-F3C836387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129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5480" indent="88920" algn="ctr">
              <a:spcBef>
                <a:spcPts val="700"/>
              </a:spcBef>
              <a:buClr>
                <a:srgbClr val="c02a0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6600" indent="135000" algn="ctr">
              <a:spcBef>
                <a:spcPts val="700"/>
              </a:spcBef>
              <a:buClr>
                <a:srgbClr val="c02a0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9520" indent="179280" algn="ctr">
              <a:spcBef>
                <a:spcPts val="700"/>
              </a:spcBef>
              <a:buClr>
                <a:srgbClr val="c02a0c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9520" indent="1792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9520" indent="1792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03320" y="4281480"/>
            <a:ext cx="9379080" cy="941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42268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yne Armour, CIS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TO, BITHGROUP Techn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9280" y="2359080"/>
            <a:ext cx="8785440" cy="106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st Practices in WLAN Securit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6560" y="5400720"/>
            <a:ext cx="1724040" cy="8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370640" y="5222880"/>
            <a:ext cx="1197000" cy="120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8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/IBM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i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l Labs/B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 Research (VM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 Technology (Hob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ate for Goya – F. Torres (Guggenhe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of Absent Flesh – F. Torres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0/PIr =&gt; “A Lot of Wires!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C222-40ED-495B-9BB1-47A406E834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31840" y="1618920"/>
            <a:ext cx="345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Back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S/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ure Wireless Architecture Desig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21320" y="4170240"/>
            <a:ext cx="3705120" cy="2281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621320" y="1619280"/>
            <a:ext cx="3705120" cy="24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82FD-829E-43D3-A813-68F9180027C8}" type="slidenum">
              <a:t>11</a:t>
            </a:fld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400" y="2028960"/>
            <a:ext cx="76867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Wireless Arch. Design/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Intrusion Detection/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Mesh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Perimete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Asset Management (RF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ted Wireless Security Policy (FedW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Wireless VoIP (Vo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Security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ure Wireless Immersion Method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78c6"/>
                </a:solidFill>
                <a:latin typeface="Times New Roman"/>
              </a:rPr>
              <a:t>S.W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332B-87A7-45BB-9ABD-4D0DB02B9017}" type="slidenum">
              <a:t>12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al WLAN Requir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iquitou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ts and Vis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DC31-F3D2-4C87-B9CA-7214073D1F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al WLAN Requir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u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A281-1A10-4269-AB45-FC5C8E4A7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al WLAN Requir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-bas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Video,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with Location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real-time Dept. Portal info while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” augmentation to Campus-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EFF6-8836-4B94-B569-45C90338A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al WLAN Requir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82480"/>
            <a:ext cx="742788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us WLAN that travels with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file for traveling executives and remot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site registration during school visit (Admissions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ECB7-9751-4575-81A8-A20EA9BB79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ucational WLAN Requir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d Mobil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, video, data while 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us police responding to 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/VoFi access while on University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A16C-1DE9-4C32-B46A-48B3738A3D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urity as an Enabling Technolo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ular Security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f Inter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Networks Log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, Student, Guest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ors (http/pop3/d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/Students get access wrt internal network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Auth/Az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(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iv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4E40-59F8-452B-B377-45089EF5AA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080" y="2593800"/>
            <a:ext cx="5978520" cy="4254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80040" y="1693800"/>
            <a:ext cx="2657520" cy="2338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9040" y="552240"/>
            <a:ext cx="8383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entral Security Services (Wired/Wireles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19560" y="2714760"/>
            <a:ext cx="195120" cy="304560"/>
            <a:chOff x="4219560" y="2714760"/>
            <a:chExt cx="195120" cy="304560"/>
          </a:xfrm>
        </p:grpSpPr>
        <p:sp>
          <p:nvSpPr>
            <p:cNvPr id="196" name=""/>
            <p:cNvSpPr/>
            <p:nvPr/>
          </p:nvSpPr>
          <p:spPr>
            <a:xfrm>
              <a:off x="4219560" y="2788920"/>
              <a:ext cx="195120" cy="195120"/>
            </a:xfrm>
            <a:prstGeom prst="ellipse">
              <a:avLst/>
            </a:prstGeom>
            <a:solidFill>
              <a:srgbClr val="99cc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28920" y="271476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29400" y="2467080"/>
            <a:ext cx="195120" cy="304560"/>
            <a:chOff x="6629400" y="2467080"/>
            <a:chExt cx="195120" cy="304560"/>
          </a:xfrm>
        </p:grpSpPr>
        <p:sp>
          <p:nvSpPr>
            <p:cNvPr id="199" name=""/>
            <p:cNvSpPr/>
            <p:nvPr/>
          </p:nvSpPr>
          <p:spPr>
            <a:xfrm>
              <a:off x="6629400" y="2546280"/>
              <a:ext cx="195120" cy="19476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34080" y="246708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38680" y="2562120"/>
            <a:ext cx="195120" cy="304920"/>
            <a:chOff x="3838680" y="2562120"/>
            <a:chExt cx="195120" cy="304920"/>
          </a:xfrm>
        </p:grpSpPr>
        <p:sp>
          <p:nvSpPr>
            <p:cNvPr id="202" name=""/>
            <p:cNvSpPr/>
            <p:nvPr/>
          </p:nvSpPr>
          <p:spPr>
            <a:xfrm>
              <a:off x="3838680" y="2641680"/>
              <a:ext cx="195120" cy="19512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3360" y="25621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838680" y="2638440"/>
            <a:ext cx="195120" cy="304920"/>
            <a:chOff x="3838680" y="2638440"/>
            <a:chExt cx="195120" cy="304920"/>
          </a:xfrm>
        </p:grpSpPr>
        <p:sp>
          <p:nvSpPr>
            <p:cNvPr id="205" name=""/>
            <p:cNvSpPr/>
            <p:nvPr/>
          </p:nvSpPr>
          <p:spPr>
            <a:xfrm>
              <a:off x="3838680" y="2718000"/>
              <a:ext cx="195120" cy="19512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3360" y="2638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38680" y="2638440"/>
            <a:ext cx="195120" cy="304920"/>
            <a:chOff x="3838680" y="2638440"/>
            <a:chExt cx="195120" cy="304920"/>
          </a:xfrm>
        </p:grpSpPr>
        <p:sp>
          <p:nvSpPr>
            <p:cNvPr id="208" name=""/>
            <p:cNvSpPr/>
            <p:nvPr/>
          </p:nvSpPr>
          <p:spPr>
            <a:xfrm>
              <a:off x="3838680" y="2718000"/>
              <a:ext cx="195120" cy="19512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43360" y="2638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38680" y="2638440"/>
            <a:ext cx="195120" cy="304920"/>
            <a:chOff x="3838680" y="2638440"/>
            <a:chExt cx="195120" cy="304920"/>
          </a:xfrm>
        </p:grpSpPr>
        <p:sp>
          <p:nvSpPr>
            <p:cNvPr id="211" name=""/>
            <p:cNvSpPr/>
            <p:nvPr/>
          </p:nvSpPr>
          <p:spPr>
            <a:xfrm>
              <a:off x="3838680" y="2718000"/>
              <a:ext cx="195120" cy="19512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43360" y="2638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38680" y="2638440"/>
            <a:ext cx="195120" cy="304920"/>
            <a:chOff x="3838680" y="2638440"/>
            <a:chExt cx="195120" cy="304920"/>
          </a:xfrm>
        </p:grpSpPr>
        <p:sp>
          <p:nvSpPr>
            <p:cNvPr id="214" name=""/>
            <p:cNvSpPr/>
            <p:nvPr/>
          </p:nvSpPr>
          <p:spPr>
            <a:xfrm>
              <a:off x="3838680" y="2718000"/>
              <a:ext cx="195120" cy="195120"/>
            </a:xfrm>
            <a:prstGeom prst="ellipse">
              <a:avLst/>
            </a:prstGeom>
            <a:solidFill>
              <a:srgbClr val="80008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43360" y="2638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38680" y="2638440"/>
            <a:ext cx="195120" cy="195120"/>
          </a:xfrm>
          <a:prstGeom prst="ellipse">
            <a:avLst/>
          </a:prstGeom>
          <a:solidFill>
            <a:srgbClr val="ff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38680" y="2714760"/>
            <a:ext cx="195120" cy="195120"/>
          </a:xfrm>
          <a:prstGeom prst="ellipse">
            <a:avLst/>
          </a:prstGeom>
          <a:solidFill>
            <a:srgbClr val="ff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4440" y="4768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8680" y="2714760"/>
            <a:ext cx="195120" cy="195120"/>
          </a:xfrm>
          <a:prstGeom prst="ellipse">
            <a:avLst/>
          </a:prstGeom>
          <a:solidFill>
            <a:srgbClr val="ff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26200" y="49212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38680" y="2714760"/>
            <a:ext cx="195120" cy="19512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039000" y="2124000"/>
            <a:ext cx="195120" cy="274680"/>
            <a:chOff x="6039000" y="2124000"/>
            <a:chExt cx="195120" cy="274680"/>
          </a:xfrm>
        </p:grpSpPr>
        <p:sp>
          <p:nvSpPr>
            <p:cNvPr id="223" name=""/>
            <p:cNvSpPr/>
            <p:nvPr/>
          </p:nvSpPr>
          <p:spPr>
            <a:xfrm>
              <a:off x="6039000" y="217656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39000" y="21240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835600" y="154296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ti-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87400" y="187632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e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08760" y="222552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ten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2000" y="26067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19200" y="218124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295880" y="2571840"/>
            <a:ext cx="1628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371840" y="2790720"/>
            <a:ext cx="207648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4219200" y="2943000"/>
            <a:ext cx="276228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29520" y="2876400"/>
            <a:ext cx="195120" cy="19548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14640" y="2714760"/>
            <a:ext cx="195480" cy="19512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38680" y="2714760"/>
            <a:ext cx="195120" cy="19512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38680" y="2714760"/>
            <a:ext cx="195120" cy="19512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14640" y="2714760"/>
            <a:ext cx="195480" cy="195120"/>
          </a:xfrm>
          <a:prstGeom prst="ellipse">
            <a:avLst/>
          </a:prstGeom>
          <a:solidFill>
            <a:srgbClr val="3366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067280" y="2562120"/>
            <a:ext cx="195120" cy="274680"/>
            <a:chOff x="4067280" y="2562120"/>
            <a:chExt cx="195120" cy="274680"/>
          </a:xfrm>
        </p:grpSpPr>
        <p:sp>
          <p:nvSpPr>
            <p:cNvPr id="239" name=""/>
            <p:cNvSpPr/>
            <p:nvPr/>
          </p:nvSpPr>
          <p:spPr>
            <a:xfrm>
              <a:off x="4067280" y="261468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7280" y="25621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38680" y="2638440"/>
            <a:ext cx="195120" cy="274680"/>
            <a:chOff x="3838680" y="2638440"/>
            <a:chExt cx="195120" cy="274680"/>
          </a:xfrm>
        </p:grpSpPr>
        <p:sp>
          <p:nvSpPr>
            <p:cNvPr id="242" name=""/>
            <p:cNvSpPr/>
            <p:nvPr/>
          </p:nvSpPr>
          <p:spPr>
            <a:xfrm>
              <a:off x="3838680" y="269100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38680" y="26384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38680" y="2638440"/>
            <a:ext cx="195120" cy="274680"/>
            <a:chOff x="3838680" y="2638440"/>
            <a:chExt cx="195120" cy="274680"/>
          </a:xfrm>
        </p:grpSpPr>
        <p:sp>
          <p:nvSpPr>
            <p:cNvPr id="245" name=""/>
            <p:cNvSpPr/>
            <p:nvPr/>
          </p:nvSpPr>
          <p:spPr>
            <a:xfrm>
              <a:off x="3838680" y="269100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38680" y="26384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38680" y="2638440"/>
            <a:ext cx="195120" cy="274680"/>
            <a:chOff x="3838680" y="2638440"/>
            <a:chExt cx="195120" cy="274680"/>
          </a:xfrm>
        </p:grpSpPr>
        <p:sp>
          <p:nvSpPr>
            <p:cNvPr id="248" name=""/>
            <p:cNvSpPr/>
            <p:nvPr/>
          </p:nvSpPr>
          <p:spPr>
            <a:xfrm>
              <a:off x="3838680" y="269100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38680" y="26384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838680" y="2638440"/>
            <a:ext cx="195120" cy="274680"/>
            <a:chOff x="3838680" y="2638440"/>
            <a:chExt cx="195120" cy="274680"/>
          </a:xfrm>
        </p:grpSpPr>
        <p:sp>
          <p:nvSpPr>
            <p:cNvPr id="251" name=""/>
            <p:cNvSpPr/>
            <p:nvPr/>
          </p:nvSpPr>
          <p:spPr>
            <a:xfrm>
              <a:off x="3838680" y="269100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38680" y="26384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22840" y="2616120"/>
            <a:ext cx="195120" cy="274680"/>
            <a:chOff x="3822840" y="2616120"/>
            <a:chExt cx="195120" cy="274680"/>
          </a:xfrm>
        </p:grpSpPr>
        <p:sp>
          <p:nvSpPr>
            <p:cNvPr id="254" name=""/>
            <p:cNvSpPr/>
            <p:nvPr/>
          </p:nvSpPr>
          <p:spPr>
            <a:xfrm>
              <a:off x="3822840" y="2668680"/>
              <a:ext cx="195120" cy="195120"/>
            </a:xfrm>
            <a:prstGeom prst="ellipse">
              <a:avLst/>
            </a:prstGeom>
            <a:solidFill>
              <a:srgbClr val="0033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22840" y="26161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H="1">
            <a:off x="5238360" y="5181480"/>
            <a:ext cx="85716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800" y="4816440"/>
            <a:ext cx="26053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72ad"/>
                </a:solidFill>
                <a:latin typeface="Trebuchet MS"/>
              </a:rPr>
              <a:t>WLAN and Wired</a:t>
            </a:r>
            <a:br>
              <a:rPr sz="2400"/>
            </a:br>
            <a:r>
              <a:rPr b="0" lang="en-US" sz="2400" spc="-1" strike="noStrike">
                <a:solidFill>
                  <a:srgbClr val="3872ad"/>
                </a:solidFill>
                <a:latin typeface="Trebuchet MS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95760" y="1838160"/>
            <a:ext cx="219240" cy="219240"/>
          </a:xfrm>
          <a:prstGeom prst="ellipse">
            <a:avLst/>
          </a:prstGeom>
          <a:solidFill>
            <a:srgbClr val="cccc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924280" y="2409840"/>
            <a:ext cx="175248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833200" y="1738440"/>
            <a:ext cx="111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72ad"/>
                </a:solidFill>
                <a:latin typeface="Trebuchet MS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72ad"/>
                </a:solidFill>
                <a:latin typeface="Trebuchet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2987640"/>
            <a:ext cx="24156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E71A-941A-4DA9-9382-C2E9AD2AF1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2963E-006 L -0.02291 0.04167 L -0.19791 0.06112 E">
                                      <p:cBhvr>
                                        <p:cTn id="25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-0.01111 L 0.10452 0.49491 E">
                                      <p:cBhvr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0.00833 L -0.2585 0.18843 E">
                                      <p:cBhvr>
                                        <p:cTn id="25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1111 L -0.09496 0.36898 E">
                                      <p:cBhvr>
                                        <p:cTn id="25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3.7037E-007 L -0.0184 0.25185 E">
                                      <p:cBhvr>
                                        <p:cTn id="26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833 L -0.16771 0.25926 E">
                                      <p:cBhvr>
                                        <p:cTn id="26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555 L -0.03785 0.42778 E">
                                      <p:cBhvr>
                                        <p:cTn id="26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C 0.00591 0.01736 0.01198 0.03495 -0.0302 0.03889 C -0.07239 0.04282 -0.20885 0.02662 -0.25312 0.02361 C -0.29739 0.0206 -0.29687 0.0206 -0.29635 0.02083 E">
                                      <p:cBhvr>
                                        <p:cTn id="267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417 L 0.0026 0.42639 E">
                                      <p:cBhvr>
                                        <p:cTn id="27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7 4.44444E-006 L 0.04392 0.31527 E">
                                      <p:cBhvr>
                                        <p:cTn id="27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695 L -0.17934 0.35139 E">
                                      <p:cBhvr>
                                        <p:cTn id="27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0.00834 L 0.04167 0.39167 E">
                                      <p:cBhvr>
                                        <p:cTn id="276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2084 L -0.11996 0.41482 E">
                                      <p:cBhvr>
                                        <p:cTn id="2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-0.00416 L -0.15816 0.16667 E">
                                      <p:cBhvr>
                                        <p:cTn id="28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C 0.00087 0.00672 0.00191 0.01343 -0.02083 0.02917 C -0.04358 0.04491 -0.11719 0.08334 -0.13646 0.09445 E">
                                      <p:cBhvr>
                                        <p:cTn id="2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44 L 0.00087 0.30255 E">
                                      <p:cBhvr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277 L 0.01979 0.46945 E">
                                      <p:cBhvr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23 L 0.06094 0.43588 E">
                                      <p:cBhvr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052 2.96296E-006 C 0.00417 0.01597 0.0092 0.03194 -0.04323 0.03125 C -0.09566 0.03055 -0.26962 0.00185 -0.31476 -0.00417 E">
                                      <p:cBhvr>
                                        <p:cTn id="29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0.00672 L -0.27309 0.27755 E">
                                      <p:cBhvr>
                                        <p:cTn id="29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9 -0.03912 L -0.08038 0.41783 E">
                                      <p:cBhvr>
                                        <p:cTn id="29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0694 L 0.08298 0.50926 E">
                                      <p:cBhvr>
                                        <p:cTn id="30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0301 L -0.26771 0.33727 E">
                                      <p:cBhvr>
                                        <p:cTn id="30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278 L -0.30955 0.12199 E">
                                      <p:cBhvr>
                                        <p:cTn id="3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THGROUP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e A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7120" y="1512360"/>
            <a:ext cx="715644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in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quarters in Columbia, MD – Offices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iladelphia,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ntsville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E Ce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rgia (pe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sylvania (pe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YN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02a0c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Minority Supplier Development Counc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MS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OT Certification (S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A0D3-3216-4475-AAEA-232B6DB443EB}" type="slidenum">
              <a:t>2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sh - Security &amp; Surveillan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847880"/>
            <a:ext cx="3765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 Mesh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 Wireless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s Network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 Security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56320" y="2000160"/>
            <a:ext cx="376524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1025-369D-48A3-A375-6B8E23C62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19240" y="1582560"/>
            <a:ext cx="3463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” Wirel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back-e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Config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He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 Encryption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sponder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bi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260960" y="1600200"/>
            <a:ext cx="4289400" cy="4525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reless Mesh Networ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2E5E-4CD7-4E3E-9A03-B50AE9CBD12C}" type="slidenum">
              <a:t>21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urity as an Enabling Technolo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 Extensible Authentication Protocol (E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of Location to Auth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326F-19C7-4163-9ED6-E23215A86A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P Convers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0: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1: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a: EAP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b: AAA-Key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2: Secure Association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 Secur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Secur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E0D7-3630-4EAD-B49D-C5385D1ECC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P Phase 0: Discover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Discovery1" descr=""/>
          <p:cNvPicPr/>
          <p:nvPr/>
        </p:nvPicPr>
        <p:blipFill>
          <a:blip r:embed="rId2"/>
          <a:stretch/>
        </p:blipFill>
        <p:spPr>
          <a:xfrm>
            <a:off x="1828800" y="1612800"/>
            <a:ext cx="541008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A12C-4150-4BC7-B75F-DE42E1F22E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P Phase 1: Authent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828800" y="184320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1DF5-96FF-4A89-9881-9E52A63E8A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447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P Phase 2: Secure Associa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Unicast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828800" y="1843200"/>
            <a:ext cx="54864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1D0B-BB25-4497-A89F-CEF7BA8467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tion-based Security (Auth/Az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834080" y="1755720"/>
            <a:ext cx="37670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-base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to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orm came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osest health-care professional to resp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classific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ile “outside” higher level of encryption is necess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368360" y="1855800"/>
            <a:ext cx="318924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4CAD-F670-40BF-9A5D-D211C966A3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cation-based Security (Asset Mgmt.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55520" y="1549440"/>
            <a:ext cx="740268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66C4-53CE-4112-9054-FA6FE62951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Secur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-based Att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143000" y="2412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8725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6960" y="1486080"/>
            <a:ext cx="7670880" cy="4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ert L. Wal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esident and C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 years experience in management, engineering, systems development, &amp; applicatio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ont, Procter &amp; Gamble, IBM, ECS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S. Mechanical Engineering &amp; Applied Mechanics, University of Pennsylvania, Towne School of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B.A. Amos Tuck School of Business at Dartmouth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torate of Humane Letters, Sojourner-Douglass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 of 5 Best Selling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ecutive Manage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1380-9AF3-4D43-9D89-95D515F7B5C0}" type="slidenum">
              <a:t>3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LAN Security – Protocol-based Attack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802.11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-layer Disassociation Frames did not need to be authenticated and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poofing and MITM attacks we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key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96C4-258F-4AFB-B24A-021FA235EF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LAN Security (802.11i State Machine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30280" y="1469880"/>
            <a:ext cx="6553080" cy="51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61A2-3AC3-49FF-B29B-89246E7FC5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02.11i Frame Classes (cont.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1 Frames (Unauthenticated/Unassociate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Fr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TS/CTS/ACK/CF-ACK/CF-E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gmt Fr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robe Req/Resp; Beacon; Authentication; Deauthentication; Ad-hoc Data; Announcement Traffic Indication Message (ATIM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2 Frames (Authenticated/Unassociate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gmt Fram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sociation Req/Resp within RSN; Reassociation Req/Resp; Disassociation) Note: Association/Reassociation req/resp messages must be authenticated and integrity protected using key material derived during 802.1x authent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3 Frames (Authenticated/Associate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Fram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“To DS” or “From DS” FC bits set to “TRUE”; WEP bit 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 Fram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authentication; implies Disassociation as well, changing the STA’s state from 3 to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Fram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S-Po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3308-B3CC-4783-9AEE-75146AC517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040" y="1482480"/>
            <a:ext cx="723420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Channel Assessment (CCA)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. Prof. Mark Looi (Queensland University of Austral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he CSMA/CA CCA function at the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all WLAN nodes within range (clients and APs) to defer transmission of data for the duration of the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seen as “bu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829E-AFCB-4795-953F-9DC5041330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 (cont.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 Traffic Indicator Mode (AT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1 (Unauthenticated/Unassociated) 802.11 Managemen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“Busy” message to cause other devices on network to wait for media to becom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05BB-9853-4F7A-B05A-59DA48AF0E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LAN Dos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43000" y="2556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1364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3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768672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LAN DoS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s on Protocol-bas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s for known probes (Netstumbler, Kismet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 across enterprise to ensure sophisticated attacks ar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19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poofing across sub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40A9-CDC0-456C-9C9A-60D414FDE6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ction without Mitigation is half the bat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9357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reless Intrusion Detection/Protec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82480"/>
            <a:ext cx="376560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Attack Detection/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mt Frame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 J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/De-auth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 Req.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e AP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OL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AP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onfigured AP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70360" y="3046320"/>
            <a:ext cx="3767040" cy="1860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80000" y="3187800"/>
            <a:ext cx="9367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FC39-1524-405C-9BFA-FE08DD40C0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96960" y="1547280"/>
            <a:ext cx="768672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Threa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igation of attacks to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Appliance (Processes &lt;= 20K Events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s, IDS, Routers, Switche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Discovery with real-time “Hot Spo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eduction (e.g. 2.3MM syslog messages to 17 Actionable Ev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choke point and rule/ACL to mitigat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red DoS Detection/Mitig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8060-6C7D-4173-961E-3811969A9C92}" type="slidenum">
              <a:t>39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6960" y="1486080"/>
            <a:ext cx="7808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ne W. Armou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SS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hief Technology Offi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Years experience, computer engineering, software development, information security, wireless engineering, and wireless securit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, AT&amp;T Bell Labs Research, OFO Technologie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S. Electrical Engineering (Computer Science Minor) University of Pennsylvania, Moore School of Electric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ecutive Manage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4947-A799-4417-AC25-CB9BB8165359}" type="slidenum">
              <a:t>4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LAN Protocol-based Attack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143000" y="2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7158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36440" y="1533600"/>
            <a:ext cx="3454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WiFi Architectu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WiFi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d WIDS/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Fi 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Fi Security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72080" y="1533600"/>
            <a:ext cx="3767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-critical WiFi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itous WiFi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WiFi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X/OPEX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title"/>
          </p:nvPr>
        </p:nvSpPr>
        <p:spPr>
          <a:xfrm>
            <a:off x="946080" y="244080"/>
            <a:ext cx="7088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.W.I.M.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LAN Security as an Enabling Techn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E905-93FF-4624-AB48-733A3C43BEF6}" type="slidenum">
              <a:t>41</a:t>
            </a:fld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021120" y="1911240"/>
            <a:ext cx="3241440" cy="32004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14400" y="3319560"/>
            <a:ext cx="7686720" cy="89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ac2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181560"/>
            <a:ext cx="110808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77263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st Practices in WLAN Secur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4606920"/>
            <a:ext cx="87854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Information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6280" y="5846760"/>
            <a:ext cx="87933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ifi.bithgroup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43376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950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3720" y="1486080"/>
            <a:ext cx="765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rome San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hief Financial Offi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 years experience, engineering, consulting, manufacturing, finance, investment ba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ont, Cresap &amp; McCormick, Carrier, SDGG Holding Company, The Broadview Group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S. Mechanical Engineering, University of Ak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B.A. Wharton School of Business, University of Pennsyl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ecutive Manage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8769-37B2-483B-B0C7-1BFDA875C0B5}" type="slidenum">
              <a:t>5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3720" y="150192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olyn W. 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hief Administration Offi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years experience, engineering, research &amp; development, operations management, high performance team development, human resources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ont, General Motors, Procter &amp; G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S. Mechanical/Biomedical Engineering, University of Del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ecutive Manage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7CFF-5F4A-4393-95DE-AE86C9355F46}" type="slidenum">
              <a:t>6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38360" y="4070520"/>
            <a:ext cx="2094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99920" y="1487160"/>
            <a:ext cx="7551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02a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ervic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Con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formation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etwork Engineering &amp;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Wireless Engineering &amp; Security</a:t>
            </a:r>
            <a:r>
              <a:rPr b="1" i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Secure Wireless Immersion Methodology (S.W.I.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ty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 Design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echnology Con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02a0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THGROUP Technolog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04BB-7826-4CEF-B63E-09C2A4914FB8}" type="slidenum">
              <a:t>7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foSec Technology Partne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14400" y="3013200"/>
            <a:ext cx="1962360" cy="59040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86360" y="2201760"/>
            <a:ext cx="1962000" cy="59076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986360" y="3827520"/>
            <a:ext cx="1962000" cy="59040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792440" y="3808440"/>
            <a:ext cx="2016000" cy="612720"/>
          </a:xfrm>
          <a:prstGeom prst="rect">
            <a:avLst/>
          </a:prstGeom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809720" y="2195640"/>
            <a:ext cx="1997280" cy="60012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4987800" y="2990880"/>
            <a:ext cx="1959120" cy="6318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4978440" y="4627440"/>
            <a:ext cx="2019240" cy="47952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1811160" y="4629240"/>
            <a:ext cx="1968840" cy="466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00FC-6BAA-47CD-AF0B-6EC15C7C1A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960" y="244080"/>
            <a:ext cx="80834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4680" y="1434960"/>
            <a:ext cx="260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8560" y="1434960"/>
            <a:ext cx="1787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8560" y="2914560"/>
            <a:ext cx="260676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8560" y="2914560"/>
            <a:ext cx="2606760" cy="36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8560" y="4721400"/>
            <a:ext cx="2606760" cy="36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8560" y="2914560"/>
            <a:ext cx="360" cy="180684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05320" y="2914560"/>
            <a:ext cx="360" cy="180684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5640" y="2924280"/>
            <a:ext cx="803160" cy="36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65640" y="5010120"/>
            <a:ext cx="803160" cy="36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5640" y="2924280"/>
            <a:ext cx="360" cy="208584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68800" y="2924280"/>
            <a:ext cx="360" cy="2085840"/>
          </a:xfrm>
          <a:prstGeom prst="lin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82720" y="6286680"/>
            <a:ext cx="261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85840" y="4398840"/>
            <a:ext cx="0" cy="627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3720" y="4875120"/>
            <a:ext cx="0" cy="63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5029200"/>
            <a:ext cx="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6600" y="5657760"/>
            <a:ext cx="0" cy="62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2160" y="1935000"/>
            <a:ext cx="1533600" cy="3240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2160" y="2473200"/>
            <a:ext cx="1533600" cy="3240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22160" y="3611520"/>
            <a:ext cx="1533600" cy="3240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719280" y="4224240"/>
            <a:ext cx="1536480" cy="3254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19280" y="3021120"/>
            <a:ext cx="1533240" cy="3254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722160" y="4808520"/>
            <a:ext cx="1533600" cy="3254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3" name=""/>
          <p:cNvSpPr/>
          <p:nvPr/>
        </p:nvSpPr>
        <p:spPr>
          <a:xfrm>
            <a:off x="2343240" y="4635360"/>
            <a:ext cx="1711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ak Rid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863800"/>
            <a:ext cx="136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43240" y="4068720"/>
            <a:ext cx="19666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of MD – M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3452760"/>
            <a:ext cx="19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of MD – M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19480" y="2282760"/>
            <a:ext cx="24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19480" y="1792440"/>
            <a:ext cx="1734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e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49720" y="1657440"/>
            <a:ext cx="5470560" cy="4629240"/>
            <a:chOff x="5049720" y="1657440"/>
            <a:chExt cx="5470560" cy="4629240"/>
          </a:xfrm>
        </p:grpSpPr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5065560" y="1935360"/>
              <a:ext cx="1533600" cy="32400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5051160" y="2468880"/>
              <a:ext cx="1560600" cy="33156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5049720" y="3022920"/>
              <a:ext cx="1560600" cy="33156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53" name=""/>
            <p:cNvSpPr/>
            <p:nvPr/>
          </p:nvSpPr>
          <p:spPr>
            <a:xfrm>
              <a:off x="6723000" y="1657440"/>
              <a:ext cx="0" cy="62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23000" y="2286360"/>
              <a:ext cx="0" cy="703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3000" y="2989440"/>
              <a:ext cx="0" cy="62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23000" y="3618000"/>
              <a:ext cx="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23000" y="4248360"/>
              <a:ext cx="0" cy="62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3000" y="4875480"/>
              <a:ext cx="0" cy="63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23000" y="5029560"/>
              <a:ext cx="0" cy="62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42400" y="5658120"/>
              <a:ext cx="0" cy="62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0640" y="6286680"/>
              <a:ext cx="3911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3000" y="1787760"/>
              <a:ext cx="37972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B MO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23000" y="2337120"/>
              <a:ext cx="37972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fense Inform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s Ag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23000" y="2910240"/>
              <a:ext cx="37972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tional Nucle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curity Admin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1"/>
            <a:stretch/>
          </p:blipFill>
          <p:spPr>
            <a:xfrm>
              <a:off x="5055840" y="3603960"/>
              <a:ext cx="1535400" cy="32544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66" name="" descr=""/>
            <p:cNvPicPr/>
            <p:nvPr/>
          </p:nvPicPr>
          <p:blipFill>
            <a:blip r:embed="rId12"/>
            <a:stretch/>
          </p:blipFill>
          <p:spPr>
            <a:xfrm>
              <a:off x="5064120" y="4208760"/>
              <a:ext cx="1535040" cy="32544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67" name="" descr=""/>
            <p:cNvPicPr/>
            <p:nvPr/>
          </p:nvPicPr>
          <p:blipFill>
            <a:blip r:embed="rId13"/>
            <a:stretch/>
          </p:blipFill>
          <p:spPr>
            <a:xfrm>
              <a:off x="5064120" y="4795920"/>
              <a:ext cx="1535040" cy="32544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68" name=""/>
            <p:cNvSpPr/>
            <p:nvPr/>
          </p:nvSpPr>
          <p:spPr>
            <a:xfrm>
              <a:off x="6723000" y="4635720"/>
              <a:ext cx="17110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entag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23000" y="4062600"/>
              <a:ext cx="19666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V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3000" y="3492720"/>
              <a:ext cx="37972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.S. Depar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Agricul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1C1F-68E1-4582-B6BD-760B8A4839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6:49:42Z</dcterms:created>
  <dc:creator>USER</dc:creator>
  <dc:description/>
  <dc:language>en-US</dc:language>
  <cp:lastModifiedBy>Suresh Balakrishnan</cp:lastModifiedBy>
  <cp:lastPrinted>1999-04-13T14:43:38Z</cp:lastPrinted>
  <dcterms:modified xsi:type="dcterms:W3CDTF">2005-07-15T18:43:23Z</dcterms:modified>
  <cp:revision>437</cp:revision>
  <dc:subject/>
  <dc:title>No Slide Title</dc:title>
</cp:coreProperties>
</file>